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9991-FE07-4B1F-839B-93A64683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588-D1C3-4494-9269-69D30E03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BAF-6092-4105-9CE8-4E34A9EB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315-EA46-462D-8288-1C6F9D97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DA8B-E91B-4084-B0AA-CCF0D779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E246-393F-4B49-997C-F8F90719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A4F4-56D4-4303-99E8-529574AD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8E2A-FB3E-4085-96A3-3D8CB4AE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CA90-B419-414C-AEEF-89B28C4D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AB79-7F22-4E4A-BB14-E21AF8A4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F21A-0856-4B7C-BADB-F68566CE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BC5-3D84-4F56-B583-B4173EDF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054C-27FB-48A2-AA19-C34B8241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5D93-AFC6-4C3C-9A79-E3EDA2DB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1023-22CA-4A0E-8AD7-A236FCFB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70C3-5D79-4FA6-BAF6-69E45903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64F7-CFF1-4D1C-AD08-FCE06F1E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7CD-1054-41C7-9014-8EEBC779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3F5-F0F9-4494-ACAE-3399B855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AA7-774D-4055-91CD-28F813D1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BC1-0184-479D-BF76-C370492F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F30-4EB8-4CCB-891C-0BD654CD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538E-8DB9-4A34-82B4-6E8ACAFD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668-108C-487B-A958-9CB3796B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165A-85BB-459E-9B4B-F7BB4D3D581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1CDE-8FBC-4E5A-95D6-FA55F3A4785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terature moved from individual difficulties to mass struggl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Grapes of Wrath (1939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hotographers also made their mark through unfiltered looks at those deeply effected by the Depress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819600" cy="4953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tretch/>
        </p:blipFill>
        <p:spPr>
          <a:xfrm>
            <a:off x="4068720" y="457200"/>
            <a:ext cx="4694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838080" y="11430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4"/>
          <a:stretch/>
        </p:blipFill>
        <p:spPr>
          <a:xfrm>
            <a:off x="5334120" y="1155600"/>
            <a:ext cx="3047760" cy="5562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5"/>
          <a:stretch/>
        </p:blipFill>
        <p:spPr>
          <a:xfrm>
            <a:off x="685800" y="3429000"/>
            <a:ext cx="32004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rs as status symb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ny couldn’t afford to drive but still owned the ca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ghways and roads made it possible for people to drive to find work or advent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4648320" cy="3479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80010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volutionary appliances not only were continued to be made, but became more and more popular items to buy when possibl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frigerator sales continued to climb throughout the Depress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shing machines and electric irons also were bi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999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vies with sound came alo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stly musicals, but at least one epic film that people around the world still talk about.  What was i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81720" cy="3495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4"/>
          <a:stretch/>
        </p:blipFill>
        <p:spPr>
          <a:xfrm>
            <a:off x="4800600" y="1523880"/>
            <a:ext cx="4191120" cy="49723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304920" y="144792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939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tory of a love lost and found in the South during the Civil Wa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0 million + radio sets were owned by 1929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 1939… 30 million+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aytime radio= Soap Operas, panel discussions, and quiz show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fternoon= Kids shows, including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The Lone Ranger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Superma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ight= News, Comedy shows, and Dramatic Present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0" y="533520"/>
            <a:ext cx="5318280" cy="5029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5410080" y="762120"/>
            <a:ext cx="3621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4:13:25Z</dcterms:created>
  <dc:creator>Eric Rossi</dc:creator>
  <dc:description/>
  <dc:language>en-US</dc:language>
  <cp:lastModifiedBy>ASD</cp:lastModifiedBy>
  <dcterms:modified xsi:type="dcterms:W3CDTF">2010-06-23T21:08:15Z</dcterms:modified>
  <cp:revision>5</cp:revision>
  <dc:subject/>
  <dc:title>Slide 1</dc:title>
</cp:coreProperties>
</file>